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20BFC-D748-4D0D-B02B-90F880029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0A505-266A-4AB1-B4EF-0DF60B897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3821D-C385-491F-A583-9CA8A47BF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3E133-3B09-4ECB-859C-5A1DB1D32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E5371-2474-43FE-9F50-38827778F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D677A-E6A1-42ED-8A3B-7A14A844F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92AC8-8436-4408-95CF-51630DEC2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5659E-EAE1-4783-A72C-BC7151226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D95D0-7A5A-4249-A50B-1D4FA65C0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34320-5A43-45C7-9327-6AAE91EA9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CCCBC-2BB9-4669-A304-AC95B74D8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8E8EC-D3F3-4410-A54E-970902E91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AA92A-7D3C-4A8A-9553-4DDCF81F9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26004-AF87-4814-923D-C46DE7860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470C1-1C12-420E-9130-F4830F487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59D78-D85F-4545-AB99-DF8FB39F3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09569-51EB-4A69-AF90-DCC21D5EF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AA653-810F-40C7-8656-8BD539532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C65B0-C8B5-4C99-8112-77E1D655C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B5AE4-5583-4885-BD56-848513F18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DD29E-BF0C-4890-AC06-3CBE021C7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DC268-2667-428C-93E5-52CF31561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403C9-0797-457F-A078-FC61E21F7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F0371-675B-4C46-99A8-4055B578E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71582-7620-466E-A4A0-40916A4360C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F65FC-79B9-475D-BEAD-9AEB790398A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transparent signal path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and acknowledge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termine if destination is fr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 pat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locking or Non-bloc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twork is unable to connect stations because all paths are in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locking network allows th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voice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rt duration ca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all stations to connect (in pairs) at o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some data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c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analog environ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bar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crosspoints grows as square of number of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s of crosspoint prevent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efficient use of cross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stations connected, only a few crosspoints in u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bar Matrix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2209680" y="1447920"/>
            <a:ext cx="47530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number of cross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one path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7120"/>
          <a:stretch/>
        </p:blipFill>
        <p:spPr>
          <a:xfrm>
            <a:off x="685800" y="1371600"/>
            <a:ext cx="7848720" cy="53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tion low speed bit stream into pieces that share higher speed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DM bus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synchronous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hrough controlled gates to high speed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lot allows small amount of data onto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line’s gate is enabled for output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connections will need paths through more than on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find a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ili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witches are a tree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routing uses the same approach all th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routing allows for changes in routing depending on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a peer structure fo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ssible routes between end offices pre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lects appropriate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s listed in preference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sets of routes may be used at different ti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15436"/>
          <a:stretch/>
        </p:blipFill>
        <p:spPr>
          <a:xfrm>
            <a:off x="2205000" y="1409760"/>
            <a:ext cx="473400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ransmission is typically done over a network of switched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not concerned with conte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devices are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, terminal, phone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nodes and connections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outed by being switched from node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ble communication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dialed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an not be complet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end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o ring 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lling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quipment and trunk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agnostic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of specialist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 Seque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phones on ho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ifts receiver (off hoo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switch signa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responds with dial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er dials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arget not busy, send ringer signal to target subscr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to cal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nging tone, engaged tone, unobtain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accepts call by lifting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terminates ringing signal and ringing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establish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release when Source subscriber hangs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 to Switch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s connected to differen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izes interswitch tru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ff hook signal on trunk, requesting digit register at target switch (for addres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ing switch sends off hook followed by on hook (wink) to show register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nds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1112"/>
          <a:stretch/>
        </p:blipFill>
        <p:spPr>
          <a:xfrm>
            <a:off x="685800" y="1371600"/>
            <a:ext cx="7696080" cy="54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pends on subscriber device and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of subscriber calls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e com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ame channel for signaling and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no additional transmission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same frequencies as voi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go anywhere a voice signal c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ssible to set up a call on a faulty speech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 of 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signals do not use full 4kHz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signal band within 4kHz used f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sent whether or not voice signals are pre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extra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ower signal rate (narrow bandwid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rawbacks of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transfer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between entering address (dialing) and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come by use of common channe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signals carried over paths independent of voice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 control signal channel can carry signals for a number of subscriber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ontrol channel for these subscriber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channel closely tracks interswitch trunk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tional nodes (signal transfer point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ectively two separate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v.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679"/>
          <a:stretch/>
        </p:blipFill>
        <p:spPr>
          <a:xfrm>
            <a:off x="685800" y="1371600"/>
            <a:ext cx="7772400" cy="54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6277"/>
          <a:stretch/>
        </p:blipFill>
        <p:spPr>
          <a:xfrm>
            <a:off x="3765600" y="0"/>
            <a:ext cx="5378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ay connect to other nodes only, or to stations and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to node links usually multiple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s usually partially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redundant connections are desirable for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different switching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System Number 7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S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hannel signal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mized for 64k digital channe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, remote control, management and mainten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means of transfer of info in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ll operate over analog and below 64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terrestrial and satellite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S7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point (S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point in the network capable of handling SS7 control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ransfer point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ing point capable of routing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sible for establishing and managing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a connection is set up, info is transferred in the information pla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fer Poi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3733" t="0" r="4980" b="6689"/>
          <a:stretch/>
        </p:blipFill>
        <p:spPr>
          <a:xfrm>
            <a:off x="4322880" y="228600"/>
            <a:ext cx="459252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Struc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P capac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ignaling links that can be hand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ransf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oughput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ility of network to provide services in the face of STP fail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company web sites (not much technical info - mostly marke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e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6337"/>
          <a:stretch/>
        </p:blipFill>
        <p:spPr>
          <a:xfrm>
            <a:off x="1143000" y="1371600"/>
            <a:ext cx="7010280" cy="54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 path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switching capacity and channel capacity to establish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intelligence to work out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nel capacity dedicated for duration of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, capacity was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up (connection) takes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transfer is trans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voice traffic (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Circuit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1322"/>
          <a:stretch/>
        </p:blipFill>
        <p:spPr>
          <a:xfrm>
            <a:off x="228600" y="1557360"/>
            <a:ext cx="8458200" cy="42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lecomms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ttached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ing cen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- supports subscri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anches between ex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348"/>
          <a:stretch/>
        </p:blipFill>
        <p:spPr>
          <a:xfrm>
            <a:off x="2438280" y="1371600"/>
            <a:ext cx="3711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4T11:59:01Z</dcterms:created>
  <dc:creator>Adrian J Pullin</dc:creator>
  <dc:description/>
  <dc:language>en-US</dc:language>
  <cp:lastModifiedBy>Adrian J Pullin</cp:lastModifiedBy>
  <dcterms:modified xsi:type="dcterms:W3CDTF">1999-10-20T13:46:15Z</dcterms:modified>
  <cp:revision>32</cp:revision>
  <dc:subject/>
  <dc:title>William Stallings Data and Computer Communications</dc:title>
</cp:coreProperties>
</file>